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9D79-0A97-451E-9028-B62D49824B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72B4-CF60-4798-9E7C-672D7190530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4CEE-87B3-40B7-8186-92C933A06FC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2FC4-B678-4CBC-80F9-638EA5C62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9174-F448-4D30-8626-E14B0BBA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E452-6B40-48D5-9B6B-42B838D3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D184-B59C-4DC2-A4F6-A8F6B699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6AB4-C172-456A-8B6B-022870E6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29E1-E45E-473F-AD85-E050AD63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94BA-79EC-4005-8F88-D274EA4A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31C5-4410-4365-895E-4465D2DD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F3D1-B3F0-4814-AB9A-4CE1CDB8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D760-0910-41F5-BD44-363D4314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A6BA-ADE5-4E1F-AB91-A2DC00C1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CB28-6D7D-479A-82FE-7EA83A5A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AF13-5216-4514-887A-9F570B06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2024-E5BB-46CD-B318-839E88B2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C000-73DA-4B85-B111-A9A1B8D1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3C9F-FB39-4C31-BFAB-014D59533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40E9-7E9C-4DE5-B19B-229CFF02F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5A48-9554-40A6-8C4A-3FD1B634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76BF-C43C-49E2-9CAF-86C6DF65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8B2F-B1C5-47C4-8F89-193EBF67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3E5A-7B0E-42DC-9992-ECAE494D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FCF8-D68A-4C27-B530-F8B49192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C804-24B9-4EDC-9B66-54EA6D9B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4F87-9FC0-4617-A6F6-2A971A55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E8F5-ADD9-492F-9373-31D91DD5D60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48A9-A55E-4BC6-A18E-E688F2EA82A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3640" y="685440"/>
            <a:ext cx="856908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Разработка рабочих программ</a:t>
            </a:r>
            <a:br>
              <a:rPr sz="3600"/>
            </a:b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учебных предметов и курсов</a:t>
            </a:r>
            <a:br>
              <a:rPr sz="3600"/>
            </a:b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в соответствии с требованиями ФГОС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Нормативные документы, лежащие в основе рабочих программ</a:t>
            </a: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148392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ГОС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ОП образовательного учреждения, в том числе учебный план основного общего образования, программа развития универсальных учебных действ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едеральный перечень учебни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также следующие материал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ная программа учебного предмет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вторская программа учебного предме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Документы, лежащие в основе</a:t>
            </a:r>
            <a:br>
              <a:rPr sz="4000"/>
            </a:b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 рабочих программ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кольку рабочие программы учебных предметов курсов являются компонентом основной общеобразовательной программы ступени, их разработка и утверждение относится к компетенции образовательного учреждения (п. 5 ст. 12 Федерального закона № 273 от 29.12.2012 «Об образовании в Российской Федерации»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овательно, регламентировать структуру и содержание рабочей программы в образовательном учреждении может локальный акт, например, «Положение о рабочей программе учебного предмета, курса». Данный локальный акт определяет правила, нормы, объективно отражающие требования к рабочим программа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рабочей программы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го предмет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тульный лис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яснительная запис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атический поурочный план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анируемые образовательные результаты на конец обучения в данном класс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особы оценивания образовательных результатов обучающихс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методическое обеспечение образовательного процесса по предмет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ьно-техническое обеспечение образовательного процесса по предмет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ст внесения изменений в рабочую програм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итульный лист отражает: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ное наименование образовательного учреждения в соответствии с Уставом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у утверждения рабочей программы в соответствии с Положением о рабочей программ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учебного предмет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ласс, для которого разработан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ок реализации рабочей программы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.И.О. учителя, составившего рабочую программ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год составления рабочей програм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77920"/>
            <a:ext cx="89280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Пояснительная записка рабочей    программы должна отражать сведения: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перечне нормативных документов и материалов, на основе которых составлен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 общем количестве часов на учебный год, в неделю, на которые рассчитано преподавание предмета в данном класс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целях и задачах преподавания предмета в данном классе. Определяются на основе примерной или  авторской программы для данного класса с учетом специфики образовательного учрежд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ведущих формах, методах и средствах обучения, технологиях и т.д., которые будут использоваться учителем для реализации рабочей программы. При переходе на новый стандарт актуальными с точки зрения достижения новых образовательных результатов становятся способы обучения, реализующие системно-деятельностный подход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 отличительных особенностях рабочей программы по сравнению с авторской и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ичинах внесения измен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Причины для внесения изменений в авторскую программу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ачестве причин для внесения изменений в авторскую программу могут выступа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еспеченность практической части авторской программы лабораторным оборудованием, другими средствам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еспеченность авторской программой в полной мере содержания образования по предмету в соответствии с требованиями ФГОС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ематический поурочный план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тический поурочный план составляется с учетом учебного плана образовательного учреждения для данной ступени образования. Он раскрывает последовательность изучения содержания программы, распределение количества учебных часов по разделам и темам, конкретизирует все дидактические единицы содержания в рамках каждого урока, определяет проведение контрольных, лабораторных, практических и других видов работ, планируемые результаты изучения раздел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тический поурочный план составляется на учебный год и оформляется в виде таблицы и является обязательной частью рабочей програм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ланируемые образовательные результаты обучающихся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от обязательный структурный компонент рабочей программы отражает перечень требований к личностным, метапредметным, предметным результатам, на достижение которых она направлен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ования к образовательным результатам обучающихся, прописанные в рабочей программе не должны быть ниже, сформулированных в стандарт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ования к описанию планируемых образовательных результатов: они должны быть реально опознаваемы с помощью диагностических инструмен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209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Способы оценивания планируемых образовательных результатов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й структурный компонент рабочей программы требует фиксирования сведений о количестве контрольных мероприятий, форме промежуточной аттестаци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х, методах, средствах контроля и оценки планируемых образовательных результатов обучающихся при реализации данной рабочей программы, которые планирует реализовать учител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4000" y="475920"/>
            <a:ext cx="7545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ачестве приложения к рабочей программе педагогом могут представляться также и средства контроля и оценки образовательных результа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шение о необходимости предоставления учителем средств контроля может быть принято педагогическим советом образовательного учреждения и зафиксировано в «Положении о рабочей программе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Рабочая программа учебного предмета или курса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казывает как с учетом конкретных условий, образовательных потребностей, возрастных и других особенностей обучающихся конкретного класса учитель планирует осуществлять образовательный процесс по предмету на основе ФГОС. По сути, рабочая программа – это индивидуальная педагогическая модель реализации образовательного процесса обучения предме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Учебно-методическое обеспечение образовательного процесса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ражает основную и дополнительную учебную литературу для обучающихс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ики, учебные пособия, рабочие тетради, сборники задач и упражнений, тестов, контрольных и практических работ, практикумов, хрестомат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равочные пособия (словари, справочники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глядный материал (атласы, альбомы, карты, таблицы) и другие информационные источники, которые учитель планирует использовать для реализации рабочей программ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Материально-техническое обеспечение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ражает перечень учебного оборудования и оборудования для лабораторных, практических работ, организации проектной и исследовательской деятельности обучающихся и т.д., которые учитель планирует использовать при реализации рабочей програм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Лист внесения изменений в рабочую программу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50560" y="1483920"/>
            <a:ext cx="871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сматривает фиксацию возможных изменений в рабочей программе, необходимость в которых может возникнуть в течение учебного год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итель имеет право вносить изменения в рабочую программу только на основании приказа руководителя образовательного учреждения или при условии согласования изменений с заместителем руководителя бразовательного учреждения по учебно-воспитательной рабо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и содержание рабочей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ограммы учебного курса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ая программа учебного курса может составляться как на основе авторской (если таковая имеется), так и самим педагог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первом случае структурные компоненты рабочей программы учебного курса совпадают со структурными компонентами рабочей программы учебного предме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случае, когда программа разрабатывается самим педагогом и, по сути, является авторской, структурные компоненты, должны быть дополнены еще учебно-тематическим планом и содержанием учебного курс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рабочей программы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го кур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яснительной запис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тематического план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ания учебного кур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атического поурочного план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анируемых образовательных результат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методического обеспечения 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ьно-технического обеспечения 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ста внесения изменений в рабочую програм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-тематический план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ебно-тематический план представляет собой разделение всего содержания учебного курса на дидактические единицы разделы, их нумерацию с указанием продолжительности их изучения. Он предваряет такой компонент рабочей программы как «Содержание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одержание учебного кур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держание учебного курса представляет собой краткое содержание каждого раздела согласно нумерации в учебно-тематическом план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Этапы разработки и утверждения 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рабоч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Выбрать авторскую программу и соответствующий к ней учебно-методический комплект (УМК) из Федерального перечня, рекомендованного Минобрнауки РФ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Сравнить цели изучения учебного предмета в выбранн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вторской программе для данного класса с целями, зафиксированными в примерной программе. При необходимости выполнить корректировку целей авторской программы, отразить этот факт в тексте пояснительной записки РП, обосновав причину корректиров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Сравнить требования к планируемым образовательным результатам обучающихся на конец обучения в данном классе в выбранной авторской программе с такими же требованиями, прописанными в примерной программе по учебному предмет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Этапы разработки и утверждения 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рабоч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4000" y="155700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Сравнить содержание образования по предмету, представленное в авторской программе для всех классов данной ступени и примерной програм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. Составить тематический поурочный пла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. Определить состав УМ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7. Оформить текст рабочей программы в соответствии с требовани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8. Выполнить самоэкспертизу качества составленной рабочей программы с учетом требований «Положения о рабочей программе», критериями качества, разработанными в О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9. Провести внешнюю экспертизу рабочей программы. Результаты рассмотрения представить в виде выписки из протокола заседания методического объедин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0. Представить рабочую программу к утверждению в соответствии с принятой в образовательном учреждении процедур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666699"/>
                </a:solidFill>
                <a:latin typeface="Garamond"/>
              </a:rPr>
              <a:t>Спасибо за внимание!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2" name="Прямоугольник 2"/>
          <p:cNvSpPr/>
          <p:nvPr/>
        </p:nvSpPr>
        <p:spPr>
          <a:xfrm>
            <a:off x="1187280" y="3573360"/>
            <a:ext cx="70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ковлева Надежда Геннадьевна, научный сотрудник от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провождения ФГОС «ИРО ПК» (р.т. 8-34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12-21-99; с.т. 8-909-731-01-80, e-mai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nni1909@yandex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Основные требования к рабочей программе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9280" y="148392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бочие программы должны быть направлены на достижение образовательных результатов. В связи с этим рабочие программы должны разрабатываться учителем на основе требований к планируемым образовательным результата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разработке рабочей программы учителю рекомендуется использовать и примерную и авторскую программы по учебному предме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имерные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3640" y="159984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ные программы учебных предметов для основной школы составлены на основе фундаментального ядра содержания общего образования и требований к результатам основного общего образования, представленных в ФГО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ная программа учебного предмета определяет инвариантную (обязательную) часть учебного предмета, за пределами которой остается возможность авторского выбора вариативной составляющей содержания образования. Примерная программа не является нормативным документ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Авторские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вторская программа в совокупности с учебно-методическими материалами (учебниками, рабочими тетрадями, тетрадями для практических работ, сборниками заданий, контрольных работ, книгами для учителя, CD и т.д.составляет авторский УМ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наличии УМК учителю рациональнее обеспечивать достижение образовательных результатов средствами учебного предме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еимущества использования авторск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рские программы конкретизируют содержание предметных тем, включенных в стандарт, определяют в рамках авторской концепции изучения предмета в каждом классе распределение учебных часов по разделам, темам, набор практических, лабораторных работ, выполняемых учащимися, опытов, демонстрируемых учителем в классе и т.д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рская программа не является нормативным документ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лизация авторских программ в каждом классе, как правило, подкреплена учебно-методическими материал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9640" y="188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имерная программа – средство, помогающее учителю проанализировать авторскую программу с точки зрения обеспечения требований стандарта, т.е. получить ответы на следующие вопрос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ражает ли авторская программа для данного класса в полной мере содержание, включенное в примерную программ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ое содержание авторской программы является избыточным по сравнению с содержанием примерной программы? Это будет список тем, не входящих в стандар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ое содержание из примерной программы отсутствует в авторской? Это будет список тем из стандарта, изучение которых следует обеспечить, не смотря на то, что их нет в авторской программ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одержание рабочей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ы на эти вопросы определят содержание будущей рабочей программы, а именно: будет ли она отличаться от авторской (если – да, то в какой части и почему?) или не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ая программа – нормативный документ, который иллюстрирует, как учитель планирует реализовывать авторскую программу с учетом особенностей ОУ (условий, образовательных потребностей обучающихся) и требований действующего стандар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В целом структура и содержание рабочей программы определяется: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ованиями ФГОС к образовательным результатам по предмет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лендарным учебным графиком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емом учебных часов на изучение предмета, курса согласно учебному плану для конкретного клас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ями и задачами, планируемыми образовательными результатами основной образовательной программы ступени общего образования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знавательными интересами обучающихся конкретного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бором образовательным учреждением УМК для обеспечения реализации рабочей програм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Jakovleva-NG</cp:lastModifiedBy>
  <dcterms:modified xsi:type="dcterms:W3CDTF">2019-05-16T05:57:00Z</dcterms:modified>
  <cp:revision>46</cp:revision>
  <dc:subject/>
  <dc:title>«Деление ядер урана»</dc:title>
</cp:coreProperties>
</file>